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14C3-A0C2-4E69-AAD0-EE7250EC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472-8151-4816-850C-17833DD8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CA6569-4EC2-455F-AE61-7E410751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E2EFA-D3D8-4EAE-B5CB-12CCDFFE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319F49-F72C-46E6-9C52-1DCFBCE9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24B88E-F9C1-43D9-B3AC-A18F1A16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66ACA-E0E0-4BC6-8C0A-14C078EF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9C913-1ADC-4588-A89A-84D3AAFB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FF76A-FB8B-472B-83A3-F0A57A7C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3A720-1B84-43A3-A297-B5E45434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1E7DF9-5244-4E54-9BE9-01299100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5ADE01-3ACA-4EE0-9734-50EDCB35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A397-95EC-4FA4-9E20-FD732BD2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806AEE-F6E1-4C06-BD24-C2860D9F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0CC347-C663-4299-BBB9-389952B5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44332C-840C-4E2F-A38A-B382C0AA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3CC36-9F1F-4038-82D2-085F19D0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474E82-C044-4E7E-9D64-CF824F56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61818-55DC-40E3-971E-D6E1D991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00D32C-02F3-463E-8049-91D5124E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4EFD1D-D4BE-4DFC-9505-53124547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C9663-7F76-4F5A-9CC0-48C881A3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7CF92-2784-4BC2-AFCC-3CB74F09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F7A-4EC4-48E3-B830-68465125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4AE80-4CFF-492F-A26A-532F97D5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071ACF-577F-4D02-B0A1-D41DF8AC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4B6B54-6430-4E5C-8107-A664F8A3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41EA45-B6EE-49D7-96D2-29F7CB39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D34B16-1A96-44BB-A722-C71B7F93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96156C-3BDF-40C0-A3CA-D7268B3A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F3CFC0-1317-4EB2-9C82-E7E01098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A4CE95-041C-4DDD-8E5B-ACCF9F0B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504008-26FE-4345-AEA4-4FF81B8E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B87BB6-E4BA-47BA-8D41-8993BA56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C6EE0B-5F68-42BE-90D0-C3268A43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5BB9B6-9855-4CF3-A359-4C8BD820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F091A5-D3B8-4039-B98E-A00B9BB5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64DE09-7D0A-4CFC-987A-6A8F1A53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510DB1-C8F6-4930-BB50-EEDAF79F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39F0E6-4B28-4348-B582-DC30F860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4A0B31-275E-4CB9-9AEB-1983191F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EDFA78-F9E9-4F59-8B9C-D610E8C8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2BD86A-BFC8-4C1A-A814-6CD0EE4E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183BF-22F0-4B76-A850-0489C54A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582CCD-66F0-4F8D-AC10-1939D62E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89BB7F-34C7-4BEC-952A-7FCF519E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5AD198-5DEB-479C-8575-67D80E44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DE4CD1-BB08-47A9-ABD5-3937CDC9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A2ADD7-090A-4B94-B25C-87072AC5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58D6ECE-10BF-4158-94FC-6F4D4AB6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1A8553-40F7-42B9-8DEF-AEFF937C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8BEB37F-68D6-4F1B-A146-8E3D7CAE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88D9957-7258-4F02-9D29-CF6B4A34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714B69-5299-4F94-954A-20E4A2F2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FDF114-1D2C-4229-88AA-34D48CFD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36DBF2-AA7C-4E37-ACCB-E9624469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DF989B-8152-4E00-B6D5-4DB41564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CC2C0E-5CBE-4E20-9C96-0E4703D6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30421E-85D2-48F8-A6C9-400E09E4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E0A073-BA99-4930-8443-50FD1167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CDA8AFA-01CE-4771-8BB0-8671919A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F1113-A114-420B-AFCB-3CDDFF4C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E16549-5592-4896-92A7-45C90817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670DEB-E314-4607-97C7-5DEFA686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883EAE-9A2A-42E4-B4F4-5A0DE69A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CA8DF5-B896-4EEB-A4AC-80D2E31F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4F943A-2611-4991-93F9-3AE96F57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BBE46A-3EA2-4D7B-AC55-EC39FA04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A2BDE5-E30B-4115-A3D8-44AC17F0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C8C806-B8E4-4F4C-9E7F-A346EB55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E4FDF3-D789-4123-BF02-A9C2228C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7B1133-32BC-4162-B4D7-C17BC59A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5894FB-4909-4B27-8A81-F009A0AE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43B224-F8A0-428A-923C-24F4AE91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42F66F-A59C-45DD-821E-C8610842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0F508C-0621-4A3F-98CA-BB6C0018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47980C-AD81-4100-A3FF-0EA040CA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246C1A-A5EE-48AF-BB69-F78C9B1B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F53150-C5A5-4ABD-BC04-43CE8A0A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2474C7-E9E3-41F1-BD39-0A9C7A0F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D3ADA1-501E-4791-96D4-F0257556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849144-2159-45BC-93CA-E5003C03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385E1C-3595-492A-B1A7-EBA091FD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6F8B0B-18DE-4708-87EF-5C4AE56E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908BEC-CF11-4E53-AF70-3A2CADA2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BEA85E-AE80-4177-A9FD-34A17A2D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0B7804-6624-473C-8645-A1D10DCE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709BFC-55A0-44ED-9452-2207B1E2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467403-3D40-4B4C-BDC2-BCC59490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5C9219-742A-4182-88FC-B1C0D227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DEC7AF-11B8-48CB-8495-C6B48C9A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752057-8E65-4DBA-8378-BFDCA866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A95-8EF0-43C9-921B-DA977EE5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62FF9D-CBF4-48C8-9482-87854CE7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324283-C204-4E9F-8246-DF64FB2E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E880BD-912F-48A5-9FE3-877A69E8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298E71-B5BB-45CC-A05D-EC058A5A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5F2902-0F05-41FE-9670-4F46BEEC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813303-B7BC-4D0A-A3A6-A8617701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43A447-2BF4-47AA-B0F2-3D18232E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AFC941-7C9E-4E5F-98AC-9595256C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FC315E-87BC-4571-ADE6-1898AB05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605154-B8CA-47AD-AD5D-87D4E59E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B8F389-BF57-4355-BEC1-BC172084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1AC581-8EBD-4933-9130-ADF03159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505E67-571A-4D6C-B0EE-EADFE437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E3C3B5-56EB-488F-98C4-B5637D3A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7FC4FB-A678-4291-A722-D00821AD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7DA14E-A504-4947-AD94-D569F34E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CA80D7-998F-4F11-A712-C5B6010F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3815E1-45E2-4DB8-BADD-E9511F6D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046DA6-37C8-4AE9-A916-FD804C03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A422FC-6246-4DAA-B447-337C3D1A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0C5A66-9050-4A2E-97CF-E633065E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27CE7F-568E-411F-BB69-EB921445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BA2DF3-1D82-461B-BFC8-E823A212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EB2FFD-8ED4-4C4B-AADB-C681817B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5A7EAD-412C-4CA4-ADF1-4205F81F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F73F87-0D68-4F4F-957B-DF725CE0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7BCEA2-8CD0-4F4D-AD8A-BF0799E1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7461FD-4955-4F07-80E5-2CFD174B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51279F-FB41-4FDE-B5B9-7EB38FA4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3DD8F9-3FBE-4643-B7FB-7DE33409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CCF626-85D4-4067-827E-9C94E56B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42FD03-AF79-48C2-8903-0D8B14C4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DCF33D-FC08-4385-94CF-7A0B6E74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9398D4-801F-4B27-A932-80317C14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B67144-3542-4198-964D-1AE9CD66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ABDDDF-1042-4302-9518-C2BEC800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BA8AC4-E4DE-4A7A-8158-F2D79F42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7199CB-2A48-4460-BDE9-903A45A8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539AED-4F31-4720-9149-B64FAB2E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6A0E9F-7575-4B32-ABBE-1D01BB38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51E67D-793F-47F9-94B3-4B5999AE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D92B76-6B6F-4114-9E1E-95C5D3FA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E77FD0-2FB1-4835-A18E-FB32DD41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D95B0D-6429-42BC-AE97-AF4F4EC2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5E8D11-C2B8-45B2-9267-57321E74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878A71-3BBC-4BF3-8BB8-69C37E9A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F35A1E-35FB-4F9E-87E9-98044217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5D73FA-4CCB-49A2-ADDD-18BAA844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8B24A3-10B1-494A-97B7-EA30D5D5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B11513-CDCC-4B5B-AAE3-5D2B6148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CD4D09-A589-4F64-88C2-A9A85A7D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0FB173-C1E4-4ADC-8FDA-82559CC9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8BD5DE-8DBA-4C73-BBE9-67F38D20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53362B-11C2-4DAD-8853-9968FBEA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0499DF-F94E-4E3D-89C8-6C524D76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105763-97B6-454E-B76E-9727F1E6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C8DF4-9F54-4219-9F66-8F0A830F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AA8F8-BBBF-441B-B222-0837B9DC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155-E1D2-48B9-93FB-0A6DEF87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7E16A-DDA8-426B-AB70-2CB8A0C8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A3484D-8C0C-4611-92D6-55D5CE12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A3895-0A1C-48B7-8D14-AFBA4A94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7BDB7-9F79-4600-8206-B8D406B9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63E6FC-C102-4A1A-814B-DF76B301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7EA14-D3DC-486D-8CFD-2105F960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6A605-51AE-4D0E-A5C3-38D42FBD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569B9E-7BEB-4F19-B128-2FD927D3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248102-9C36-4B2F-8D35-75F869BE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650E5F-73F0-42AE-BF22-C345CD5B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DB4-78F5-4F0E-BF61-8423A042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36D28-044E-4AF4-8B07-33EEEEA0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08097-6F68-4522-80A5-0C23F7A6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44941F-C9EA-40FC-A079-351E27E2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289022-C909-4499-8A5F-0AC7643A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A4BA70-648E-4922-A2DF-8C67C7CE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788CB9-C462-4697-8D47-B54B469A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0FEBF2-8797-4F4F-83FF-75AD3E85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D7930D-8934-4F08-BD68-58A783B2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157950-6052-477B-9870-0033FC40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1AE7-E0F9-4935-8C74-EA4CFA10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D41B-DC6D-49F1-98A2-E0DCC343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9BC0ED-49A6-4F64-A8C0-DEADBE76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FF3E47-8BEB-4FE1-9E8D-502C9E03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0A1B5D-F2EA-441D-935A-42D373CF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19CE08-7A46-4C79-9695-D02A6BC8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3FFCA5-6B0F-4DC0-9A44-6138A21A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B9AA8A-025F-4695-960A-7D94D184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034F4D-229C-4C33-ABCA-0A4052ED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00BE5F-D4DE-46BB-84D9-87AFAC20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202FB4-B393-430E-8915-402C836A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A75E-BDB3-4878-9AEB-06DD8D06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FB335F-3754-4B04-A8B2-4B8FF827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B20FB1-1C54-4660-ADE6-7E549B00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BB874C-3E7A-4879-B647-A9CE9A5F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C2E6DE-EADE-4D7B-A13F-2E0F8D29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68FF4C-F973-4309-A666-2B540B63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0ADFB0-7264-43CD-A997-3BE97122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AF02A2-0C91-4323-B097-D02D01D7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C908D3-E577-43FB-A10D-A7BC4CF4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D61D9E-7180-4A7F-8E28-A75F8D7A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E44DBF-4DE3-457A-8276-95B0A0C1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8F8-7267-4B1A-8F37-D4356D15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3B14C4-24F2-48A4-BA82-1E210147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2B42AA-9658-45DA-8338-11A949E8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F5A61F-4807-41C7-BFD5-80874476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7F23E4-0B75-4E82-8921-45D958D2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240F0C-702A-4781-A062-6140968B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0ABEDF-8B4C-445D-92E5-12EC19BF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B39E24-29F4-47CE-A633-BEB19911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E1D23F-A21C-4438-82B2-02B67602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43A469-7636-48BC-A89D-3A91E4E9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03E50A-C72F-46A5-A0BE-877E1D41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1C9-018E-45AE-B520-410CF763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77C4CA-33AF-4A74-A84B-1AC52C6A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A054CF-6702-454F-8587-E3934EC1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AC909C-CBD7-4A3C-AB34-72C87C5C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4BAE9D-1DE0-446D-8D06-828943C0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9F1AE5-BDE7-4C21-A57F-CB2817B3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EA956D-C546-4970-81CF-9B2B3CF6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2F502C-67FA-44DB-A400-AEAFCE27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443740-B645-47B7-A9B6-FA8BD2B4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D4A32-9244-4739-9EC1-0C01EFD6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35F51-438D-4BCB-BA09-0DC0F10C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F2FA1-3EC1-4F42-8BF0-B4DED1777448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DA25B-C653-4745-B02F-9F240A35382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291A7-AD07-4F07-A548-5A4EBA5AF80E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31806-98DE-4BD8-BE98-E2E2DD9EA00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F80D5-FE5C-454F-9352-ACAF26DD05A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9C1C3-D1B1-4C23-BDE6-0B2AB1AE1AD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04FEA-38F6-4289-A317-C128A8AC115E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97112-D036-4E2E-B4FB-05A2DE47184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DE674-7978-42D9-9F4C-D3C7EACD22D8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99E0E5-634B-4244-8725-27BB705B356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2DC59B-76D3-43D4-8C6C-55227B5847E6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28D67-BCB7-44D3-BAD5-DDB5FA1FD4D1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F78FA-BFEF-41C0-922D-E1E52A411A0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251B4-60BC-4EE1-8B79-99202DEA1D94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14FD4-236E-48D2-A943-978FEE94634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44B83-680D-4062-B3A9-42A72AD8F7DE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98429-1736-49C8-B4BB-8BD68172A776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8CC8A-5AE8-4C57-9C17-20FCB3CD0A22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093B4-1F5C-4D63-8B5C-B2FA5D036DA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6EB5B-C1C7-4E77-9763-F15FE5652CA8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28182-FA2D-4D8F-A2AA-E97524766489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998B3-33CE-4135-96CE-E7DBC2DBC9BB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70754-8CB2-40CC-BF4B-4805526C22A9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8D74F-3C43-408B-A241-2B15C5477ECE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43CF2-E230-4676-987E-9E8C4CDEFAB8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CFCEE-89FB-4704-B513-0ACC1FE4E510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DE234-3B40-4157-A602-B5FDB6E0DB2A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06A29-031A-40F4-B091-1988E02C176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4382E-E9E2-41C2-B760-089B3BF003CD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F89CC-7E93-4EE2-A00A-4A062D9E47E3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1B7EB-BCE6-43BE-8EA5-4EEE8D6F1B74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A21F26-ED19-4463-B706-FF8E3184EDE0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95213-5076-4B90-A98B-14F60272BAC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B5286-EDBD-49C1-9B82-89FD3DA2AB25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CFCB5-790C-4AFF-ABE4-31BB8553B76E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69409-6B4C-4EF2-96BC-5B5C7574F9B4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71BDC-3007-410D-A237-23982DE91BF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D141E-749E-40D2-8110-C09D065B7E48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B7389-9F44-440A-8920-879F43D91FD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Users/cciu/Desktop/Gifted%20Education/Gifted%20White%20Paper%20April%202010%20final.doc" TargetMode="External"/><Relationship Id="rId2" Type="http://schemas.openxmlformats.org/officeDocument/2006/relationships/hyperlink" Target="file:///Users/cciu/Desktop/PAGE%20Conference%202010/AssessChart.doc" TargetMode="External"/><Relationship Id="rId3" Type="http://schemas.openxmlformats.org/officeDocument/2006/relationships/hyperlink" Target="file:///Users/cciu/Desktop/Gifted%20Education/Meeting%20Notes/April%202010%20state%20mtg/Goal%20statements%20developed%20at%20last%20mtg.tiff" TargetMode="External"/><Relationship Id="rId4" Type="http://schemas.openxmlformats.org/officeDocument/2006/relationships/hyperlink" Target="file:///Users/cciu/Desktop/Gifted%20Education/Meeting%20Notes/April%202010%20state%20mtg/IU%20%231%20e-mentoring%20goals.tiff" TargetMode="External"/><Relationship Id="rId5" Type="http://schemas.openxmlformats.org/officeDocument/2006/relationships/hyperlink" Target="file:///Users/cciu/Desktop/Gifted%20Education/Meeting%20Notes/April%202010%20state%20mtg/IU%20%231%20e-mentoring%20goals.tiff" TargetMode="External"/><Relationship Id="rId6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Gifted Network Meeting- 5/17/10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498600" y="1315800"/>
            <a:ext cx="3657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Rockwell"/>
              </a:rPr>
              <a:t>Introductions</a:t>
            </a:r>
            <a:endParaRPr b="0" lang="en-US" sz="3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bc5fbc"/>
                </a:solidFill>
                <a:uFillTx/>
                <a:latin typeface="Rockwell"/>
                <a:hlinkClick r:id="rId1"/>
              </a:rPr>
              <a:t>PDE White Paper</a:t>
            </a:r>
            <a:endParaRPr b="0" lang="en-US" sz="3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bc5fbc"/>
                </a:solidFill>
                <a:uFillTx/>
                <a:latin typeface="Rockwell"/>
                <a:hlinkClick r:id="rId2"/>
              </a:rPr>
              <a:t>PLEP- Summary of possible assessments</a:t>
            </a:r>
            <a:endParaRPr b="0" lang="en-US" sz="3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bc5fbc"/>
                </a:solidFill>
                <a:uFillTx/>
                <a:latin typeface="Rockwell"/>
                <a:hlinkClick r:id="rId3"/>
              </a:rPr>
              <a:t>Bad Goal Statements</a:t>
            </a:r>
            <a:endParaRPr b="0" lang="en-US" sz="3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bc5fbc"/>
                </a:solidFill>
                <a:uFillTx/>
                <a:latin typeface="Rockwell"/>
                <a:hlinkClick r:id="rId4"/>
              </a:rPr>
              <a:t>IU#1 </a:t>
            </a:r>
            <a:r>
              <a:rPr b="0" lang="en-US" sz="3000" spc="-1" strike="noStrike" u="sng">
                <a:solidFill>
                  <a:srgbClr val="bc5fbc"/>
                </a:solidFill>
                <a:uFillTx/>
                <a:latin typeface="Rockwell"/>
                <a:hlinkClick r:id="rId5"/>
              </a:rPr>
              <a:t>e</a:t>
            </a:r>
            <a:r>
              <a:rPr b="0" lang="en-US" sz="3000" spc="-1" strike="noStrike">
                <a:solidFill>
                  <a:srgbClr val="595959"/>
                </a:solidFill>
                <a:latin typeface="Rockwell"/>
              </a:rPr>
              <a:t>-mentoring goals</a:t>
            </a:r>
            <a:endParaRPr b="0" lang="en-US" sz="3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4397400" y="1599840"/>
            <a:ext cx="365760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Demos of tools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Google Wonderwheel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www.lexile.com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Due Process presentation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3:04:31Z</dcterms:created>
  <dc:creator>CCIU</dc:creator>
  <dc:description/>
  <dc:language>en-US</dc:language>
  <cp:lastModifiedBy>CCIU</cp:lastModifiedBy>
  <dcterms:modified xsi:type="dcterms:W3CDTF">2010-05-19T12:37:30Z</dcterms:modified>
  <cp:revision>2</cp:revision>
  <dc:subject/>
  <dc:title>Gifted Network Meeting- 5/17/10</dc:title>
</cp:coreProperties>
</file>